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425-E11C-4B5E-948E-BA2B2507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697-0D84-476A-81BF-D3F921BA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824-0BC0-4D23-87B1-AB2C5BFC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A36-BFA9-433D-ADFE-92BF4CAA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016-B24D-417C-AD4B-D7BB0289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6F1-68EF-4520-A3CF-01BE49EB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13F-F93A-48B8-A650-F7DF06AF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E9F-574C-4A9C-86CE-79AAFF92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A6B-6A71-41E4-9DE6-761951BF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700-7D6D-4C5F-A7A7-FA50A72E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354-2E15-4611-9E0C-68AD5E70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FFD-45A0-4CF1-B7E6-78244CAB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169E-8951-4498-BCA8-BF655BE06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,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,Bold"/>
              </a:rPr>
              <a:t>Err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difference between a measured or calculated (reported) value and the tru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recognize that errors are present in their professional lives and must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dentify types of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merically express the magnitude of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cognize the confidence that may be placed in a printed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error i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e scale at the grocery store has water on it. (The water runs off the produ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keeper sneezes at the moment the runners cross the finish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oline sloshed from your tank prior to the pump shutting off (mpg calcul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with a 100 ft tape that is actually 99.01 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wrong key(s) on a calculator during a long calc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Defini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ways to numerically describe err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True err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ed value – Tru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Fractional err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error / Tru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Percent err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al error * 10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An exampl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true error, fractional error and percent error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14710" t="59263" r="22553" b="1852"/>
          <a:stretch/>
        </p:blipFill>
        <p:spPr>
          <a:xfrm>
            <a:off x="1828800" y="3200400"/>
            <a:ext cx="4876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oting results and error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 state error to one significant figure (although if one or two then two significant figures may be used)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nt figures may be us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ote result to same significance as err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ote result to same significance as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ing scientific notation, quote                 value and error with the same expon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y are errors importan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easurements of body temperature before and after a drug is admini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.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38.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emperature rise significant? – It depends on the associated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8.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(38.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-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8.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nd (38.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– not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Simple Error Analys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a rod of unknown length is measured with a standard meter st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 5 minutes as a team completing this 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said about the length of the rod is report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to 8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 to 7.6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7 to 7.59 c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Systematic </a:t>
            </a: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Err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,Bold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,BoldItalic"/>
              </a:rPr>
              <a:t>Systematic Erro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errors that can be attributed to some regular outside occur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must be aware of the presence of systematic errors and eliminate those possible and try to quantify and correct for those rem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Systematic </a:t>
            </a: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Err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rror associated with systematic errors can be corrected if the source and magnitude are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ing measurements will </a:t>
            </a: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 or reduce systematic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Systematic </a:t>
            </a: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throughout a set of readings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ant throughout a set of read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sult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which is incorrectly calibrate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easurements are performed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ments are per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 average (mean) of measured valu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se average (mean) of measured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part from correct value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depart from correct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524"/>
              </a:spcBef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spot presence of systemat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 to spot presence of syste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in an experiment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rors in an e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Random </a:t>
            </a: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Err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,Bold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,BoldItalic"/>
              </a:rPr>
              <a:t>Accidental (Random) Errors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that occur in a random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f accidental errors is evident by the </a:t>
            </a:r>
            <a:r>
              <a:rPr b="1" lang="en-US" sz="3200" spc="-1" strike="noStrike">
                <a:solidFill>
                  <a:srgbClr val="000000"/>
                </a:solidFill>
                <a:latin typeface="Arial,Bold"/>
              </a:rPr>
              <a:t>scat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asure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Random </a:t>
            </a: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ssible to predict the magnitude and sign of the accidental error present in any one measur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ing measurements and averaging the results will reduce the random error in the aver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Random </a:t>
            </a:r>
            <a:r>
              <a:rPr b="1" lang="en-US" sz="4400" spc="-1" strike="noStrike">
                <a:solidFill>
                  <a:srgbClr val="000000"/>
                </a:solidFill>
                <a:latin typeface="Arial,Bold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5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rror that varies between successiv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55000"/>
              </a:lnSpc>
              <a:spcBef>
                <a:spcPts val="524"/>
              </a:spcBef>
              <a:spcAft>
                <a:spcPts val="524"/>
              </a:spcAft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ally likely to be positive or negativ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qually likely to be positive or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55000"/>
              </a:lnSpc>
              <a:spcBef>
                <a:spcPts val="524"/>
              </a:spcBef>
              <a:spcAft>
                <a:spcPts val="524"/>
              </a:spcAft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ways present in an experime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present in an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ce obvious from distribution of values    obtain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45000"/>
              </a:lnSpc>
              <a:spcBef>
                <a:spcPts val="349"/>
              </a:spcBef>
              <a:spcAft>
                <a:spcPts val="524"/>
              </a:spcAft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minimised by performing multip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minimised by performing mult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ments of the same quantity or b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ments of the same quantity or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5000"/>
              </a:lnSpc>
              <a:spcBef>
                <a:spcPts val="14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one quantity as function of  secon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ing one quantity as function of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5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ty and performing a straight line fit of the dat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55000"/>
              </a:lnSpc>
              <a:spcBef>
                <a:spcPts val="524"/>
              </a:spcBef>
              <a:spcAft>
                <a:spcPts val="524"/>
              </a:spcAft>
              <a:buClr>
                <a:srgbClr val="ffcd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d00"/>
                </a:solidFill>
                <a:latin typeface="Tahom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 referred to as read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2:25:46Z</dcterms:created>
  <dc:creator>Division of Technology</dc:creator>
  <dc:description/>
  <dc:language>en-US</dc:language>
  <cp:lastModifiedBy>Gandell, Allen</cp:lastModifiedBy>
  <dcterms:modified xsi:type="dcterms:W3CDTF">2015-07-27T00:09:21Z</dcterms:modified>
  <cp:revision>11</cp:revision>
  <dc:subject/>
  <dc:title>Error</dc:title>
</cp:coreProperties>
</file>